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7108150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708-8E1D-4E58-8103-E4AE431D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55400" y="2959920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162-B8F0-4565-982B-D2B40B18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85676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90E-BF2F-4AA4-9583-C8C45283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60408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5276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5540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60408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785276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808-D8D1-487D-AFF6-A3A86E42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26"/>
              </a:spcBef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55400" y="2050560"/>
            <a:ext cx="24396840" cy="39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26"/>
              </a:spcBef>
              <a:tabLst>
                <a:tab algn="l" pos="0"/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26"/>
              </a:spcBef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D10-AF81-4323-9799-D787FE6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85676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55400" y="2959920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85676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60408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52760" y="1194768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5540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960408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7852760" y="29599200"/>
            <a:ext cx="785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213-E4BE-4AA1-9FD4-B137B83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588-3BEA-4F11-AC17-89D2580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439-5F95-46E3-8E73-DBE7B83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5400" y="2050560"/>
            <a:ext cx="24396840" cy="39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26"/>
              </a:spcBef>
              <a:tabLst>
                <a:tab algn="l" pos="0"/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2CD-C9F1-4ECD-8AD7-A3D3366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5B7-DAEC-47BF-8509-AAB35BD5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856760" y="2959920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197-71C9-4564-A3BB-E17FA12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5540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856760" y="11947680"/>
            <a:ext cx="1190556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55400" y="29599200"/>
            <a:ext cx="24396840" cy="161197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73720"/>
                <a:tab algn="l" pos="8947080"/>
              </a:tabLst>
            </a:pP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81C-3633-469D-AF2B-FF5696E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r>
              <a:rPr b="0" lang="en-US" sz="215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marL="1676520" indent="-167652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1" marL="3633840" indent="-139716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2" marL="5591160" indent="-111744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3" marL="7827840" indent="-111744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4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5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6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55760" y="47461320"/>
            <a:ext cx="6324480" cy="27259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261360" y="47461320"/>
            <a:ext cx="8585280" cy="27259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427400" y="47461320"/>
            <a:ext cx="6324840" cy="27259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468-9B85-4140-B3C4-F7A56426B554}" type="slidenum">
              <a:rPr b="0" lang="ko-KR" sz="5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2" descr="clinic.png"/>
          <p:cNvPicPr/>
          <p:nvPr/>
        </p:nvPicPr>
        <p:blipFill>
          <a:blip r:embed="rId2"/>
          <a:stretch/>
        </p:blipFill>
        <p:spPr>
          <a:xfrm>
            <a:off x="14400" y="6480"/>
            <a:ext cx="27079560" cy="5119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2" descr="clinic.png"/>
          <p:cNvPicPr/>
          <p:nvPr/>
        </p:nvPicPr>
        <p:blipFill>
          <a:blip r:embed="rId2"/>
          <a:stretch/>
        </p:blipFill>
        <p:spPr>
          <a:xfrm>
            <a:off x="14400" y="6480"/>
            <a:ext cx="27079560" cy="5119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400" y="2050560"/>
            <a:ext cx="24396840" cy="853452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ctr">
            <a:noAutofit/>
          </a:bodyPr>
          <a:p>
            <a:pPr indent="0" algn="ctr">
              <a:buNone/>
              <a:tabLst>
                <a:tab algn="l" pos="0"/>
                <a:tab algn="l" pos="4473720"/>
                <a:tab algn="l" pos="8947080"/>
              </a:tabLst>
            </a:pPr>
            <a:r>
              <a:rPr b="0" lang="en-US" sz="215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2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55400" y="11947680"/>
            <a:ext cx="24396840" cy="33794640"/>
          </a:xfrm>
          <a:prstGeom prst="rect">
            <a:avLst/>
          </a:prstGeom>
          <a:noFill/>
          <a:ln w="0">
            <a:noFill/>
          </a:ln>
        </p:spPr>
        <p:txBody>
          <a:bodyPr lIns="447480" rIns="447480" tIns="223560" bIns="223560" anchor="t">
            <a:normAutofit/>
          </a:bodyPr>
          <a:p>
            <a:pPr marL="1676520" indent="-167652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1" marL="3633840" indent="-139716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2" marL="5591160" indent="-111744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3" marL="7827840" indent="-111744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4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5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  <a:p>
            <a:pPr lvl="6" marL="10064880" indent="-111780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73720"/>
                <a:tab algn="l" pos="894708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15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직사각형 16"/>
          <p:cNvSpPr/>
          <p:nvPr/>
        </p:nvSpPr>
        <p:spPr>
          <a:xfrm>
            <a:off x="0" y="49725360"/>
            <a:ext cx="27108000" cy="148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5160"/>
                <a:tab algn="l" pos="8950320"/>
              </a:tabLst>
            </a:pP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직사각형 14"/>
          <p:cNvSpPr/>
          <p:nvPr/>
        </p:nvSpPr>
        <p:spPr>
          <a:xfrm flipV="1">
            <a:off x="0" y="-720"/>
            <a:ext cx="27108000" cy="652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5160"/>
                <a:tab algn="l" pos="8950320"/>
              </a:tabLst>
            </a:pP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1446120" y="14036760"/>
            <a:ext cx="10801440" cy="90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80280" bIns="80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86360"/>
                <a:tab algn="l" pos="81723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Purpose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1446120" y="22024800"/>
            <a:ext cx="10801440" cy="90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80280" bIns="80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86360"/>
                <a:tab algn="l" pos="81723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Materials &amp; Methods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14787720" y="34675920"/>
            <a:ext cx="10728000" cy="907560"/>
          </a:xfrm>
          <a:prstGeom prst="rect">
            <a:avLst/>
          </a:prstGeom>
          <a:solidFill>
            <a:srgbClr val="00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80280" bIns="80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86360"/>
                <a:tab algn="l" pos="81723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1446120" y="33091560"/>
            <a:ext cx="10801440" cy="90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80280" bIns="80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86360"/>
                <a:tab algn="l" pos="81723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1446120" y="7456320"/>
            <a:ext cx="10801440" cy="90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80280" bIns="80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86360"/>
                <a:tab algn="l" pos="81723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47"/>
          <p:cNvSpPr/>
          <p:nvPr/>
        </p:nvSpPr>
        <p:spPr>
          <a:xfrm>
            <a:off x="1695600" y="1314360"/>
            <a:ext cx="3024000" cy="371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맑은 고딕"/>
              </a:rPr>
              <a:t>(Logo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22412160" y="1314360"/>
            <a:ext cx="3024360" cy="371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Photo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f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peaker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4981680" y="1314360"/>
            <a:ext cx="17227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c00000"/>
                </a:solidFill>
                <a:latin typeface="맑은 고딕"/>
              </a:rPr>
              <a:t>TITLE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5052960" y="3100320"/>
            <a:ext cx="1722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맑은 고딕"/>
              </a:rPr>
              <a:t>NAME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맑은 고딕"/>
              </a:rPr>
              <a:t>DENTAL OFFICE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1:39:09Z</dcterms:created>
  <dc:creator>HANSOL</dc:creator>
  <dc:description/>
  <dc:language>en-US</dc:language>
  <cp:lastModifiedBy>Windows 사용자</cp:lastModifiedBy>
  <dcterms:modified xsi:type="dcterms:W3CDTF">2022-04-25T06:15:21Z</dcterms:modified>
  <cp:revision>38</cp:revision>
  <dc:subject/>
  <dc:title>슬라이드 1</dc:title>
</cp:coreProperties>
</file>